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6C7-4452-4A4A-8B2F-5E49056D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60C-CCC2-45E0-84D6-97D3F4AB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35F-DB44-46B9-A9A8-DE0E0553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B93-D2CF-4F14-AB36-1D04D0E0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79B1-482F-492A-8CF2-395F3645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F058-1465-4FE7-8D5C-C8F08146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9FB-B2FB-4FF0-9D51-1DCFB84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86F7-BBD9-40CF-8E80-2C5BCBF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798-1D5D-49AA-B2A8-49611F6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B797-4865-4ED4-82E4-E756D5FF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2D6E-11F7-4898-9AC4-D50696D9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757-CA89-42AD-BE2C-BF84813F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717-6283-4E7C-BF57-6319F8AA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676E-974A-4414-A791-ABFB3D4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F3D8-6D2D-4241-88AB-E2929F69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B4F5-2268-4937-AEAA-80E202DC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D1A7-FC51-43BA-99A3-AD65B3DF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0390-06C2-4F86-9A40-0FE7DB34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6BB5-96FC-42FB-8E9A-58C5DE4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2131-1781-4337-A188-E0F0D50A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F2CC-0D61-4F45-B594-556DDBE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BB30-B0BD-49F1-A82F-79D8036D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EEA-24C8-48E2-8954-78736D6B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AA3B-A682-4931-999E-491DD75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1C2E-1EF3-4F10-9921-C33EA2E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E533-027A-4669-BC61-93885536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6F3B-28BD-4A16-A3BC-AFF0A31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8955-697A-41C9-A1D9-A6B95960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4A88-78CA-4E63-9A1A-0D6D6659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25C1-A177-4FDB-B3EB-28E8176F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1EF-FA2A-463C-B9BC-4CD2A9B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F36F-84A2-457A-9091-077DBCF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848-6B13-429E-876A-29985394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196-4D84-4821-8AB2-AF974347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5CF-5E45-4F4C-B76F-010A072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811-4C4D-4578-BDFD-D4FA5E8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BF06-2476-40BD-BE2D-2417B0F49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29F1-6B8C-4058-902A-26E9FEC52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17BB-485E-4AD6-BA9C-349C82F28F2E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mple Present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by Kristi Rey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s from Oxford Picture Diction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C-Logo4"/>
          <p:cNvPicPr/>
          <p:nvPr/>
        </p:nvPicPr>
        <p:blipFill>
          <a:blip r:embed="rId1"/>
          <a:stretch/>
        </p:blipFill>
        <p:spPr>
          <a:xfrm>
            <a:off x="4343400" y="5257800"/>
            <a:ext cx="1714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057400" y="2928960"/>
            <a:ext cx="5122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ean the house /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ick up the childr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687680" y="2570040"/>
            <a:ext cx="539892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ok dinner /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e home / get ho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229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ve din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655640" y="2514600"/>
            <a:ext cx="6345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tch TV /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o home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36840" y="2590920"/>
            <a:ext cx="6311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lax /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ad the newspap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61722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693800" y="2666880"/>
            <a:ext cx="62308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 to 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6660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 to slee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2600" y="2819520"/>
            <a:ext cx="566892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 (my friend, the boss, a co-work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 +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, works, talks, does, spea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e Present Tense:  U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day activities:  What do you do every d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es, ha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tru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pelling rules: Third person verbs in simple present ten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1: verbs ending in –ch, -sh, -ss, and –x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2:  final consonant + y -&gt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 y + 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Person Spelling 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50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0384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actic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and answer these questions with a classma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et up in the morning?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I get up a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ime do you go to bed?  How many hours do you sleep per nigh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at breakfast?  What do you usually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wake-up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go_to_bed"/>
          <p:cNvPicPr/>
          <p:nvPr/>
        </p:nvPicPr>
        <p:blipFill>
          <a:blip r:embed="rId2"/>
          <a:stretch/>
        </p:blipFill>
        <p:spPr>
          <a:xfrm>
            <a:off x="228600" y="308628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sleep"/>
          <p:cNvPicPr/>
          <p:nvPr/>
        </p:nvPicPr>
        <p:blipFill>
          <a:blip r:embed="rId3"/>
          <a:stretch/>
        </p:blipFill>
        <p:spPr>
          <a:xfrm>
            <a:off x="228600" y="4114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eat_breakfast"/>
          <p:cNvPicPr/>
          <p:nvPr/>
        </p:nvPicPr>
        <p:blipFill>
          <a:blip r:embed="rId4"/>
          <a:stretch/>
        </p:blipFill>
        <p:spPr>
          <a:xfrm>
            <a:off x="228600" y="510552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like to do in your fre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exercise?  What exercises do you do or what sports do you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exercise"/>
          <p:cNvPicPr/>
          <p:nvPr/>
        </p:nvPicPr>
        <p:blipFill>
          <a:blip r:embed="rId1"/>
          <a:stretch/>
        </p:blipFill>
        <p:spPr>
          <a:xfrm>
            <a:off x="4267080" y="5181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relax"/>
          <p:cNvPicPr/>
          <p:nvPr/>
        </p:nvPicPr>
        <p:blipFill>
          <a:blip r:embed="rId2"/>
          <a:stretch/>
        </p:blipFill>
        <p:spPr>
          <a:xfrm>
            <a:off x="228600" y="29718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movie_theatre"/>
          <p:cNvPicPr/>
          <p:nvPr/>
        </p:nvPicPr>
        <p:blipFill>
          <a:blip r:embed="rId3"/>
          <a:stretch/>
        </p:blipFill>
        <p:spPr>
          <a:xfrm>
            <a:off x="4800600" y="2819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watch_TV"/>
          <p:cNvPicPr/>
          <p:nvPr/>
        </p:nvPicPr>
        <p:blipFill>
          <a:blip r:embed="rId4"/>
          <a:stretch/>
        </p:blipFill>
        <p:spPr>
          <a:xfrm>
            <a:off x="228600" y="19051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read"/>
          <p:cNvPicPr/>
          <p:nvPr/>
        </p:nvPicPr>
        <p:blipFill>
          <a:blip r:embed="rId5"/>
          <a:stretch/>
        </p:blipFill>
        <p:spPr>
          <a:xfrm>
            <a:off x="6400800" y="28954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talk_on_phone"/>
          <p:cNvPicPr/>
          <p:nvPr/>
        </p:nvPicPr>
        <p:blipFill>
          <a:blip r:embed="rId6"/>
          <a:stretch/>
        </p:blipFill>
        <p:spPr>
          <a:xfrm>
            <a:off x="3048120" y="28195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about you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hores do you do in your househol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do you do at your jo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ook"/>
          <p:cNvPicPr/>
          <p:nvPr/>
        </p:nvPicPr>
        <p:blipFill>
          <a:blip r:embed="rId1"/>
          <a:stretch/>
        </p:blipFill>
        <p:spPr>
          <a:xfrm>
            <a:off x="228600" y="20574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do_laundry"/>
          <p:cNvPicPr/>
          <p:nvPr/>
        </p:nvPicPr>
        <p:blipFill>
          <a:blip r:embed="rId2"/>
          <a:stretch/>
        </p:blipFill>
        <p:spPr>
          <a:xfrm>
            <a:off x="5867280" y="316224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iron"/>
          <p:cNvPicPr/>
          <p:nvPr/>
        </p:nvPicPr>
        <p:blipFill>
          <a:blip r:embed="rId3"/>
          <a:stretch/>
        </p:blipFill>
        <p:spPr>
          <a:xfrm>
            <a:off x="228600" y="31240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sweep"/>
          <p:cNvPicPr/>
          <p:nvPr/>
        </p:nvPicPr>
        <p:blipFill>
          <a:blip r:embed="rId4"/>
          <a:stretch/>
        </p:blipFill>
        <p:spPr>
          <a:xfrm>
            <a:off x="2362320" y="32004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vacuum"/>
          <p:cNvPicPr/>
          <p:nvPr/>
        </p:nvPicPr>
        <p:blipFill>
          <a:blip r:embed="rId5"/>
          <a:stretch/>
        </p:blipFill>
        <p:spPr>
          <a:xfrm>
            <a:off x="4114800" y="3191040"/>
            <a:ext cx="16383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to negati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co-worker talks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e up / get 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977760" y="2286000"/>
            <a:ext cx="7480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egative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/ you / we / th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ral subject (the workers, the peopl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 not (don’t) + ve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/ she /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ular su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does not (doesn’t) + verb (no –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ike my jo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ave benef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a nice bo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these statements to ques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has a lot of 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drives to his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w employee comes ear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r co-worker talks to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 in Simple Present Te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I / you / we / they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/ she / it + verb +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ner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twomen"/>
          <p:cNvPicPr/>
          <p:nvPr/>
        </p:nvPicPr>
        <p:blipFill>
          <a:blip r:embed="rId1"/>
          <a:stretch/>
        </p:blipFill>
        <p:spPr>
          <a:xfrm>
            <a:off x="3276720" y="2362320"/>
            <a:ext cx="28526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line Pract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iz:  Questions and neg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+ Triv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the negatives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Present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the negatives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 yes/no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eMM"/>
          <p:cNvPicPr/>
          <p:nvPr/>
        </p:nvPicPr>
        <p:blipFill>
          <a:blip r:embed="rId1"/>
          <a:stretch/>
        </p:blipFill>
        <p:spPr>
          <a:xfrm>
            <a:off x="3200400" y="2209680"/>
            <a:ext cx="3193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write a para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structor will show you a picture.  Write a paragraph of 6 – 10 sentences describing the daily actions of the woman in the pictur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simple present tense verbs (affirmative and negativ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topic sentence and concl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write"/>
          <p:cNvPicPr/>
          <p:nvPr/>
        </p:nvPicPr>
        <p:blipFill>
          <a:blip r:embed="rId1"/>
          <a:stretch/>
        </p:blipFill>
        <p:spPr>
          <a:xfrm>
            <a:off x="152280" y="17524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dailyacts1.jpg"/>
          <p:cNvPicPr/>
          <p:nvPr/>
        </p:nvPicPr>
        <p:blipFill>
          <a:blip r:embed="rId1">
            <a:lum contrast="-10000"/>
          </a:blip>
          <a:srcRect l="16644" t="7780" r="12366" b="10003"/>
          <a:stretch/>
        </p:blipFill>
        <p:spPr>
          <a:xfrm>
            <a:off x="914400" y="380880"/>
            <a:ext cx="70102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ke a shower / get dress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9073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t breakfast / make lun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638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ke the children to scho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27280" y="2666880"/>
            <a:ext cx="604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ke the bus to school / drive/go to 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728720" y="2933640"/>
            <a:ext cx="5357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 in school /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6754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 to the mark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757520" y="2554200"/>
            <a:ext cx="5176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4:26:10Z</dcterms:created>
  <dc:creator>Kristi Reyes</dc:creator>
  <dc:description/>
  <dc:language>en-US</dc:language>
  <cp:lastModifiedBy>Owner</cp:lastModifiedBy>
  <dcterms:modified xsi:type="dcterms:W3CDTF">2009-07-28T15:45:30Z</dcterms:modified>
  <cp:revision>12</cp:revision>
  <dc:subject/>
  <dc:title>Simple Present Tense</dc:title>
</cp:coreProperties>
</file>